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437-4246-4135-9BE9-E0AECAE5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223-00EC-4272-AB20-646BA329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F73-1441-4788-854E-35306538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B14-A5A9-400A-969A-4AD15FB7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10B1-FCAA-434E-8925-C1E485AE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622-C5CC-4CC8-841E-396BE7EF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B229-2E87-49B8-B7A5-68AE7E8D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9224-289F-4BA1-BB5B-3EAC8517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E889-33B9-4B7B-B3B2-6F8898F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AD09-8550-4213-A75C-338F191E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5980-3EBA-4493-9D9A-6801AAF4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D09-4176-432B-BE21-66ED2C46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366A-10F8-4860-812D-BDD0D47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9F88-E9D8-4FA1-9AAA-FA6BB6E6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73EA-A9C5-4D33-B65A-A611A4CF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AE31-5834-4589-9172-96AE5086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6CC3-CE5E-475E-8537-5C6EFC93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860-1704-45EB-AF58-59558716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010-D82C-40CB-A252-C466821E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2FC-62F4-4EFA-A610-A80A718C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78D-5426-4AE0-92B6-618ECE4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33F-CECF-418B-9F62-0A749DD8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C22-4216-48BB-B102-E8C99DD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671-9895-4A3E-8F0C-98CAB1C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8D02-53E2-4F3E-9CC2-D04E5B4918D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394-0212-401C-8728-629878F84FBC}" type="slidenum">
              <a:rPr b="0" lang="en-A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ccffff"/>
                </a:solidFill>
                <a:latin typeface="Tahoma"/>
              </a:rPr>
              <a:t>Skeletal System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Structure of a long bon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26" descr="long bone 3"/>
          <p:cNvPicPr/>
          <p:nvPr/>
        </p:nvPicPr>
        <p:blipFill>
          <a:blip r:embed="rId1"/>
          <a:stretch/>
        </p:blipFill>
        <p:spPr>
          <a:xfrm>
            <a:off x="685800" y="85680"/>
            <a:ext cx="7696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long bone 2"/>
          <p:cNvPicPr/>
          <p:nvPr/>
        </p:nvPicPr>
        <p:blipFill>
          <a:blip r:embed="rId1"/>
          <a:stretch/>
        </p:blipFill>
        <p:spPr>
          <a:xfrm>
            <a:off x="1752480" y="0"/>
            <a:ext cx="5334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ccffff"/>
                </a:solidFill>
                <a:latin typeface="Tahoma"/>
              </a:rPr>
              <a:t>Name the following bones !!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skeleton 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92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990720" y="762120"/>
            <a:ext cx="9144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90720" y="1371600"/>
            <a:ext cx="53316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" y="3657600"/>
            <a:ext cx="3808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4800600"/>
            <a:ext cx="68580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657600" y="2666880"/>
            <a:ext cx="457200" cy="152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276720" y="2971800"/>
            <a:ext cx="30456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29000"/>
            <a:ext cx="76212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2819520" y="3886200"/>
            <a:ext cx="3808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276720" y="4114800"/>
            <a:ext cx="6858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886200" y="4343400"/>
            <a:ext cx="53352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572000" y="4419720"/>
            <a:ext cx="30492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5334120" y="4495680"/>
            <a:ext cx="457200" cy="152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6324480" y="4495680"/>
            <a:ext cx="4572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6934320" y="4724280"/>
            <a:ext cx="4572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7543800" y="4876920"/>
            <a:ext cx="38088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8001000" y="4724280"/>
            <a:ext cx="533520" cy="152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8458200" y="4876920"/>
            <a:ext cx="68580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keleton 3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The skeleton</a:t>
            </a:r>
            <a:br>
              <a:rPr sz="4400"/>
            </a:b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and</a:t>
            </a:r>
            <a:br>
              <a:rPr sz="4400"/>
            </a:b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Anatomical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eleton 1"/>
          <p:cNvPicPr/>
          <p:nvPr/>
        </p:nvPicPr>
        <p:blipFill>
          <a:blip r:embed="rId1"/>
          <a:stretch/>
        </p:blipFill>
        <p:spPr>
          <a:xfrm>
            <a:off x="3048120" y="609480"/>
            <a:ext cx="3192480" cy="579132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H="1">
            <a:off x="2590560" y="1523880"/>
            <a:ext cx="114300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6477120" y="762120"/>
            <a:ext cx="0" cy="556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3657600" y="3808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286000" y="1447920"/>
            <a:ext cx="12952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676520" y="3581280"/>
            <a:ext cx="106668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2286000" y="304920"/>
            <a:ext cx="99072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4343400" y="457200"/>
            <a:ext cx="91440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6172200" y="304920"/>
            <a:ext cx="99072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6705720" y="838080"/>
            <a:ext cx="11430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6629400" y="6248520"/>
            <a:ext cx="11430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keleton 1"/>
          <p:cNvPicPr/>
          <p:nvPr/>
        </p:nvPicPr>
        <p:blipFill>
          <a:blip r:embed="rId1"/>
          <a:stretch/>
        </p:blipFill>
        <p:spPr>
          <a:xfrm>
            <a:off x="3048120" y="609480"/>
            <a:ext cx="3192480" cy="5791320"/>
          </a:xfrm>
          <a:prstGeom prst="rect">
            <a:avLst/>
          </a:prstGeom>
          <a:ln w="0">
            <a:noFill/>
          </a:ln>
        </p:spPr>
      </p:pic>
      <p:sp>
        <p:nvSpPr>
          <p:cNvPr id="99" name="Line 3"/>
          <p:cNvSpPr/>
          <p:nvPr/>
        </p:nvSpPr>
        <p:spPr>
          <a:xfrm flipH="1">
            <a:off x="2590560" y="1523880"/>
            <a:ext cx="114300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514600" y="12952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PROX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76520" y="3505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DIS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6477120" y="762120"/>
            <a:ext cx="0" cy="556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629400" y="685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SUPERI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629400" y="6019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3657600" y="3808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590920" y="380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419720" y="38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019920" y="380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Types of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ong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hort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lat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rregular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1. Long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ound in limbs (legs, ar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erve as levers for mo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reater length than wid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ostly compact b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long_bone"/>
          <p:cNvPicPr/>
          <p:nvPr/>
        </p:nvPicPr>
        <p:blipFill>
          <a:blip r:embed="rId1"/>
          <a:stretch/>
        </p:blipFill>
        <p:spPr>
          <a:xfrm>
            <a:off x="4952880" y="1600200"/>
            <a:ext cx="37576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2. Short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Very strong but have less movement (carpal and tarsal bones or foo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arly equal in length and wid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ostly spongy bone with an outer of compact b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short%20bone"/>
          <p:cNvPicPr/>
          <p:nvPr/>
        </p:nvPicPr>
        <p:blipFill>
          <a:blip r:embed="rId1"/>
          <a:stretch/>
        </p:blipFill>
        <p:spPr>
          <a:xfrm>
            <a:off x="4876920" y="1600200"/>
            <a:ext cx="2660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3. Flat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ually th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wo layers of compact bone covering a thin layer of spongy b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vide protection and a large area for muscle attach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.G. Cranium, sternum and ri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sternum"/>
          <p:cNvPicPr/>
          <p:nvPr/>
        </p:nvPicPr>
        <p:blipFill>
          <a:blip r:embed="rId1"/>
          <a:stretch/>
        </p:blipFill>
        <p:spPr>
          <a:xfrm>
            <a:off x="4724280" y="1981080"/>
            <a:ext cx="1555920" cy="229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skull"/>
          <p:cNvPicPr/>
          <p:nvPr/>
        </p:nvPicPr>
        <p:blipFill>
          <a:blip r:embed="rId2"/>
          <a:stretch/>
        </p:blipFill>
        <p:spPr>
          <a:xfrm>
            <a:off x="4800600" y="4267080"/>
            <a:ext cx="38862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4. Irregular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inly provide protection and sup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.G. Pubis and vertebr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vertebrea"/>
          <p:cNvPicPr/>
          <p:nvPr/>
        </p:nvPicPr>
        <p:blipFill>
          <a:blip r:embed="rId1"/>
          <a:stretch/>
        </p:blipFill>
        <p:spPr>
          <a:xfrm>
            <a:off x="5181480" y="137160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elvis-w"/>
          <p:cNvPicPr/>
          <p:nvPr/>
        </p:nvPicPr>
        <p:blipFill>
          <a:blip r:embed="rId2"/>
          <a:stretch/>
        </p:blipFill>
        <p:spPr>
          <a:xfrm>
            <a:off x="4952880" y="4267080"/>
            <a:ext cx="28195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2:15:03Z</dcterms:created>
  <dc:creator>Warrick Batrall</dc:creator>
  <dc:description/>
  <dc:language>en-US</dc:language>
  <cp:lastModifiedBy>Lyn Clarkson</cp:lastModifiedBy>
  <dcterms:modified xsi:type="dcterms:W3CDTF">2009-10-20T21:57:31Z</dcterms:modified>
  <cp:revision>10</cp:revision>
  <dc:subject/>
  <dc:title>Skeletal System</dc:title>
</cp:coreProperties>
</file>